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265A76-9514-4FC8-93CF-3FA8D2E6466D}"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2AE45E-5D14-4A96-AD40-3C3867C27C2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7"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4115A2-0998-418B-9096-E1DDD82D212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68"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69"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0"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C2FF3D-9C4B-4A65-A4EC-31A141CCA63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653E64-5BB2-4E0D-B39A-589DF5BDE2E7}"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D032C6-71B9-4E07-AE52-D81AED4F397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E6C4A3-091C-44CC-932C-44940C79DDC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6ADF79-704B-4277-B205-31584F61877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7C233C-AF16-4EAA-8B88-D2ECB81F406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D75D08-A631-4520-BA57-E18D0D448A41}"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5B830-C70A-4B25-873F-41ED9C3CF2C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A8C6DC-AFC0-4980-8AE4-1C676B42DA8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4342DA-57C0-4A76-9E66-F2F6B46B2EE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91D36E-3649-481A-8E40-4B3800BD834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F485D-0E0A-49E4-AD09-F2DA7E9EC1C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910043-F2FC-4E93-8E51-4639764C877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8E70AE-899E-4B03-A890-929C272C94E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1EA6DE7-C56F-4DD1-97E2-7D5D7043D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3E2747-7EEE-43EC-B7FF-5B5F62981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1C8135-5CF7-4BC7-A1E4-2F8007AFC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450681F-8F7E-4BF3-8E1C-4B0FE8A58F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FD1747-5FE6-429A-9614-9E853A427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508F2E-1AF4-4BEA-8609-97516FAB3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19140F-5DA1-4075-AD66-58546ECDC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11EE07-3222-4A86-BFE8-490546442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C9C2989-35DB-40D7-8964-4CC40FFE6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7A7AAE-20B8-4013-B7EC-78C337B95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1A111B-1E43-429A-AD24-CBFB0AB69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F11139-7B5D-4F4A-B8FA-ACF390A6E1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C4430-1C19-4870-A736-3B8A9D2CAEDE}"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1"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2"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5" name="Object 4"/>
          <p:cNvGraphicFramePr/>
          <p:nvPr/>
        </p:nvGraphicFramePr>
        <p:xfrm>
          <a:off x="2050920" y="1484280"/>
          <a:ext cx="3872160" cy="4883040"/>
        </p:xfrm>
        <a:graphic>
          <a:graphicData uri="http://schemas.openxmlformats.org/presentationml/2006/ole">
            <p:oleObj r:id="rId1" spid="">
              <p:embed/>
              <p:pic>
                <p:nvPicPr>
                  <p:cNvPr id="136"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9" name="Object 4"/>
          <p:cNvGraphicFramePr/>
          <p:nvPr/>
        </p:nvGraphicFramePr>
        <p:xfrm>
          <a:off x="2627280" y="1413000"/>
          <a:ext cx="3164040" cy="5002200"/>
        </p:xfrm>
        <a:graphic>
          <a:graphicData uri="http://schemas.openxmlformats.org/presentationml/2006/ole">
            <p:oleObj r:id="rId1" spid="">
              <p:embed/>
              <p:pic>
                <p:nvPicPr>
                  <p:cNvPr id="140"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3" name="Object 4"/>
          <p:cNvGraphicFramePr/>
          <p:nvPr/>
        </p:nvGraphicFramePr>
        <p:xfrm>
          <a:off x="25560" y="831960"/>
          <a:ext cx="3679560" cy="5445000"/>
        </p:xfrm>
        <a:graphic>
          <a:graphicData uri="http://schemas.openxmlformats.org/presentationml/2006/ole">
            <p:oleObj r:id="rId1" spid="">
              <p:embed/>
              <p:pic>
                <p:nvPicPr>
                  <p:cNvPr id="144"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45"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48" name="Object 6"/>
          <p:cNvGraphicFramePr/>
          <p:nvPr/>
        </p:nvGraphicFramePr>
        <p:xfrm>
          <a:off x="4572000" y="2924280"/>
          <a:ext cx="4572000" cy="2528640"/>
        </p:xfrm>
        <a:graphic>
          <a:graphicData uri="http://schemas.openxmlformats.org/presentationml/2006/ole">
            <p:oleObj r:id="rId1" spid="">
              <p:embed/>
              <p:pic>
                <p:nvPicPr>
                  <p:cNvPr id="149"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0" name="Object 8"/>
          <p:cNvGraphicFramePr/>
          <p:nvPr/>
        </p:nvGraphicFramePr>
        <p:xfrm>
          <a:off x="108000" y="1413000"/>
          <a:ext cx="4618080" cy="4752720"/>
        </p:xfrm>
        <a:graphic>
          <a:graphicData uri="http://schemas.openxmlformats.org/presentationml/2006/ole">
            <p:oleObj r:id="rId3" spid="">
              <p:embed/>
              <p:pic>
                <p:nvPicPr>
                  <p:cNvPr id="151"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4" name="Picture 3" descr="parser_properties"/>
          <p:cNvPicPr/>
          <p:nvPr/>
        </p:nvPicPr>
        <p:blipFill>
          <a:blip r:embed="rId1"/>
          <a:stretch/>
        </p:blipFill>
        <p:spPr>
          <a:xfrm>
            <a:off x="250920" y="1341360"/>
            <a:ext cx="5113080" cy="2220840"/>
          </a:xfrm>
          <a:prstGeom prst="rect">
            <a:avLst/>
          </a:prstGeom>
          <a:ln w="0">
            <a:noFill/>
          </a:ln>
        </p:spPr>
      </p:pic>
      <p:pic>
        <p:nvPicPr>
          <p:cNvPr id="155" name="Picture 4" descr="parser-monitor4"/>
          <p:cNvPicPr/>
          <p:nvPr/>
        </p:nvPicPr>
        <p:blipFill>
          <a:blip r:embed="rId2"/>
          <a:stretch/>
        </p:blipFill>
        <p:spPr>
          <a:xfrm>
            <a:off x="5580000" y="2924280"/>
            <a:ext cx="3348000" cy="3255840"/>
          </a:xfrm>
          <a:prstGeom prst="rect">
            <a:avLst/>
          </a:prstGeom>
          <a:ln w="0">
            <a:noFill/>
          </a:ln>
        </p:spPr>
      </p:pic>
      <p:sp>
        <p:nvSpPr>
          <p:cNvPr id="156"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5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1"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2"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5"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Administrator</cp:lastModifiedBy>
  <cp:lastPrinted>2011-07-26T12:09:20Z</cp:lastPrinted>
  <dcterms:modified xsi:type="dcterms:W3CDTF">2015-03-02T15:40:14Z</dcterms:modified>
  <cp:revision>178</cp:revision>
  <dc:subject/>
  <dc:title>Présentation PowerPoint</dc:title>
</cp:coreProperties>
</file>