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B58B73-C3EF-401F-A827-C26352B64F04}"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00678D-1C85-4D58-8485-F6E354962C4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7"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5665AA-22F1-4BC9-8AB7-FC6FC42560A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8"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69"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0"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FD7A6A-3215-44FF-A464-E9E4DAC4A541}"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A7827E-2EE3-4017-8D38-E627C936A2F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ECCC70-AFBB-4743-A55A-55182BB6922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0B53BA-B53A-48B7-852D-966D5C67523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00C9CB-8CEF-47ED-9050-44F9E453EB4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BD8346-7B0E-4BA5-B3B8-CAA24639813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30BA5F-A929-4443-94A4-E4334EECC2D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2B408A-87BF-405C-835D-70E74B2FCB2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00E556-2903-4B3E-97EB-CB6428762FD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E33CA8-82F1-4538-A87C-7DB5D7F36167}"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81B5B6-CFEE-4CCC-B685-B123845D83F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865FC2-B75D-49A3-9F01-89CD2D52F8D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712B0D-1316-494C-9550-666542F8A22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786078-3D19-41A3-BA0A-64093036CB9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CED902C-2D05-4929-91FD-C74D8C141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9A3DA9-9B0A-4C77-96E1-050549A82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4AE6BE-83CB-41EA-89A4-6706BEA76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0B32730-8AF8-46F3-81C6-080DABB67F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795D2E-83CF-42B4-B3EC-09BB6CFF1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FD38EC-1178-483F-B312-970F80BA0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585C160-3FF2-42A6-B4A2-5BF710C5D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BFABD5-3A46-4948-B19E-FA605222DE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BE5B39-CDCA-45A5-B9AF-BEAB56FF5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EDC737-2E9B-47EF-A1BA-F4D95E4E9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1F3659-6D5A-43E6-BE99-95F0D2ED7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3D1E02-C308-4494-9A1A-A2CAAE9419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2CC2F5-A777-42B9-A567-1F54043B29AC}"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1" name=""/>
          <p:cNvSpPr txBox="1"/>
          <p:nvPr/>
        </p:nvSpPr>
        <p:spPr>
          <a:xfrm>
            <a:off x="457200" y="1604880"/>
            <a:ext cx="8221680" cy="4523040"/>
          </a:xfrm>
          <a:prstGeom prst="rect">
            <a:avLst/>
          </a:prstGeom>
          <a:noFill/>
          <a:ln w="0">
            <a:noFill/>
          </a:ln>
        </p:spPr>
        <p:txBody>
          <a:bodyPr lIns="0" rIns="0" tIns="0" bIns="0" anchor="ctr">
            <a:normAutofit/>
          </a:bodyPr>
          <a:p>
            <a:pPr marL="9360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360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p:txBody>
      </p:sp>
      <p:sp>
        <p:nvSpPr>
          <p:cNvPr id="132"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5" name="Object 4"/>
          <p:cNvGraphicFramePr/>
          <p:nvPr/>
        </p:nvGraphicFramePr>
        <p:xfrm>
          <a:off x="2050920" y="1484280"/>
          <a:ext cx="3872160" cy="4883040"/>
        </p:xfrm>
        <a:graphic>
          <a:graphicData uri="http://schemas.openxmlformats.org/presentationml/2006/ole">
            <p:oleObj r:id="rId1" spid="">
              <p:embed/>
              <p:pic>
                <p:nvPicPr>
                  <p:cNvPr id="136"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9" name="Object 4"/>
          <p:cNvGraphicFramePr/>
          <p:nvPr/>
        </p:nvGraphicFramePr>
        <p:xfrm>
          <a:off x="2627280" y="1413000"/>
          <a:ext cx="3164040" cy="5002200"/>
        </p:xfrm>
        <a:graphic>
          <a:graphicData uri="http://schemas.openxmlformats.org/presentationml/2006/ole">
            <p:oleObj r:id="rId1" spid="">
              <p:embed/>
              <p:pic>
                <p:nvPicPr>
                  <p:cNvPr id="140"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3" name="Object 4"/>
          <p:cNvGraphicFramePr/>
          <p:nvPr/>
        </p:nvGraphicFramePr>
        <p:xfrm>
          <a:off x="25560" y="831960"/>
          <a:ext cx="3679560" cy="5445000"/>
        </p:xfrm>
        <a:graphic>
          <a:graphicData uri="http://schemas.openxmlformats.org/presentationml/2006/ole">
            <p:oleObj r:id="rId1" spid="">
              <p:embed/>
              <p:pic>
                <p:nvPicPr>
                  <p:cNvPr id="144"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45"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48" name="Object 6"/>
          <p:cNvGraphicFramePr/>
          <p:nvPr/>
        </p:nvGraphicFramePr>
        <p:xfrm>
          <a:off x="4572000" y="2924280"/>
          <a:ext cx="4572000" cy="2528640"/>
        </p:xfrm>
        <a:graphic>
          <a:graphicData uri="http://schemas.openxmlformats.org/presentationml/2006/ole">
            <p:oleObj r:id="rId1" spid="">
              <p:embed/>
              <p:pic>
                <p:nvPicPr>
                  <p:cNvPr id="149"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0" name="Object 8"/>
          <p:cNvGraphicFramePr/>
          <p:nvPr/>
        </p:nvGraphicFramePr>
        <p:xfrm>
          <a:off x="108000" y="1413000"/>
          <a:ext cx="4618080" cy="4752720"/>
        </p:xfrm>
        <a:graphic>
          <a:graphicData uri="http://schemas.openxmlformats.org/presentationml/2006/ole">
            <p:oleObj r:id="rId3" spid="">
              <p:embed/>
              <p:pic>
                <p:nvPicPr>
                  <p:cNvPr id="151"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4" name="Picture 3" descr="parser_properties"/>
          <p:cNvPicPr/>
          <p:nvPr/>
        </p:nvPicPr>
        <p:blipFill>
          <a:blip r:embed="rId1"/>
          <a:stretch/>
        </p:blipFill>
        <p:spPr>
          <a:xfrm>
            <a:off x="250920" y="1341360"/>
            <a:ext cx="5113080" cy="2220840"/>
          </a:xfrm>
          <a:prstGeom prst="rect">
            <a:avLst/>
          </a:prstGeom>
          <a:ln w="0">
            <a:noFill/>
          </a:ln>
        </p:spPr>
      </p:pic>
      <p:pic>
        <p:nvPicPr>
          <p:cNvPr id="155" name="Picture 4" descr="parser-monitor4"/>
          <p:cNvPicPr/>
          <p:nvPr/>
        </p:nvPicPr>
        <p:blipFill>
          <a:blip r:embed="rId2"/>
          <a:stretch/>
        </p:blipFill>
        <p:spPr>
          <a:xfrm>
            <a:off x="5580000" y="2924280"/>
            <a:ext cx="3348000" cy="3255840"/>
          </a:xfrm>
          <a:prstGeom prst="rect">
            <a:avLst/>
          </a:prstGeom>
          <a:ln w="0">
            <a:noFill/>
          </a:ln>
        </p:spPr>
      </p:pic>
      <p:sp>
        <p:nvSpPr>
          <p:cNvPr id="156"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5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1"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2"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5"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Administrator</cp:lastModifiedBy>
  <cp:lastPrinted>2011-07-26T12:09:20Z</cp:lastPrinted>
  <dcterms:modified xsi:type="dcterms:W3CDTF">2014-12-19T15:34:23Z</dcterms:modified>
  <cp:revision>176</cp:revision>
  <dc:subject/>
  <dc:title>Présentation PowerPoint</dc:title>
</cp:coreProperties>
</file>