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wmf" ContentType="image/x-wmf"/>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8D5963-90AD-4102-AEA2-77F7A9581C7C}"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4C86B9-E3D2-4C49-9E42-6D647B18D611}"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69"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D7F190-CECE-4A11-A8E6-27CDBFE5C886}"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0"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2"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3"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1571F1-706C-4AED-A9C0-62556D952FDC}"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6"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8242A7-192E-490A-A668-288A52C3B868}"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7"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9"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0"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FF2469-AFA6-4BD6-9DBC-33EC8753D0B1}"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A53C32-081B-4A64-B0D3-FA18FD4124E7}"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CDFD5F-59C5-479D-9040-3881219AA579}"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8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994837-7E72-490E-A904-002A0820B378}"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8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2DF265-3D1F-402F-B33D-EF6E1C8080FE}"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F8FB48-9689-4EEF-907E-A8EF3B66402C}"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7877A4-EA22-4670-823D-0B8A74C34926}"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F17A51-6556-475B-841F-6A75ADB03C9C}"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33D129-A684-442F-9F69-D846AC792520}"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04"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3C9868-E394-4FE8-B103-C54C50426482}"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05"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7"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8"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18E6C2-8DAB-4355-A8D8-A5C5B33167AB}"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A3CCCA-242A-4EAF-974D-090FD965A39F}"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00BD25E-0774-438F-AC27-FCA628503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797B4B-CCF4-4DDA-BB8B-245A620B5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F904967-B29A-45BA-B5F0-70F5A1BAE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4C5FFCB-90D7-4327-B093-762F5C4D2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BA1FEB-24CE-4D61-9514-7C8440436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BFAFEC-E4CA-408E-A263-7386C41D5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B4A17A-E996-4C2C-BEF4-5CDB723F9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AA5166-E3E2-43AF-A465-3497518BE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728BA4F-BDD6-4474-963E-5D805810B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EFA8D9-B10E-47DE-A9D5-352494334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B51951-1E01-410F-81B6-20E02A29A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78BB92-7512-4AE8-AE15-ABC2865DEC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A188E2-3039-41F4-A1E1-16330E6186EA}"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2" name="Object 4"/>
          <p:cNvGraphicFramePr/>
          <p:nvPr/>
        </p:nvGraphicFramePr>
        <p:xfrm>
          <a:off x="2050920" y="1484280"/>
          <a:ext cx="3872160" cy="4883040"/>
        </p:xfrm>
        <a:graphic>
          <a:graphicData uri="http://schemas.openxmlformats.org/presentationml/2006/ole">
            <p:oleObj r:id="rId1" spid="">
              <p:embed/>
              <p:pic>
                <p:nvPicPr>
                  <p:cNvPr id="13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6" name="Object 4"/>
          <p:cNvGraphicFramePr/>
          <p:nvPr/>
        </p:nvGraphicFramePr>
        <p:xfrm>
          <a:off x="2627280" y="1413000"/>
          <a:ext cx="3164040" cy="5002200"/>
        </p:xfrm>
        <a:graphic>
          <a:graphicData uri="http://schemas.openxmlformats.org/presentationml/2006/ole">
            <p:oleObj r:id="rId1" spid="">
              <p:embed/>
              <p:pic>
                <p:nvPicPr>
                  <p:cNvPr id="13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0" name="Object 4"/>
          <p:cNvGraphicFramePr/>
          <p:nvPr/>
        </p:nvGraphicFramePr>
        <p:xfrm>
          <a:off x="2050920" y="1197000"/>
          <a:ext cx="3679920" cy="5445000"/>
        </p:xfrm>
        <a:graphic>
          <a:graphicData uri="http://schemas.openxmlformats.org/presentationml/2006/ole">
            <p:oleObj r:id="rId1" spid="">
              <p:embed/>
              <p:pic>
                <p:nvPicPr>
                  <p:cNvPr id="141" name="Object 4" descr=""/>
                  <p:cNvPicPr/>
                  <p:nvPr/>
                </p:nvPicPr>
                <p:blipFill>
                  <a:blip r:embed="rId2"/>
                  <a:stretch/>
                </p:blipFill>
                <p:spPr>
                  <a:xfrm>
                    <a:off x="2050920" y="1197000"/>
                    <a:ext cx="3679920" cy="54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4" name="Object 4"/>
          <p:cNvGraphicFramePr/>
          <p:nvPr/>
        </p:nvGraphicFramePr>
        <p:xfrm>
          <a:off x="250920" y="1905120"/>
          <a:ext cx="4236840" cy="3736800"/>
        </p:xfrm>
        <a:graphic>
          <a:graphicData uri="http://schemas.openxmlformats.org/presentationml/2006/ole">
            <p:oleObj r:id="rId1" spid="">
              <p:embed/>
              <p:pic>
                <p:nvPicPr>
                  <p:cNvPr id="145" name="Object 4" descr=""/>
                  <p:cNvPicPr/>
                  <p:nvPr/>
                </p:nvPicPr>
                <p:blipFill>
                  <a:blip r:embed="rId2"/>
                  <a:stretch/>
                </p:blipFill>
                <p:spPr>
                  <a:xfrm>
                    <a:off x="250920" y="1905120"/>
                    <a:ext cx="4236840" cy="3736800"/>
                  </a:xfrm>
                  <a:prstGeom prst="rect">
                    <a:avLst/>
                  </a:prstGeom>
                  <a:ln w="0">
                    <a:noFill/>
                  </a:ln>
                </p:spPr>
              </p:pic>
            </p:oleObj>
          </a:graphicData>
        </a:graphic>
      </p:graphicFrame>
      <p:graphicFrame>
        <p:nvGraphicFramePr>
          <p:cNvPr id="146" name="Object 7"/>
          <p:cNvGraphicFramePr/>
          <p:nvPr/>
        </p:nvGraphicFramePr>
        <p:xfrm>
          <a:off x="4643280" y="2070000"/>
          <a:ext cx="4321440" cy="3368880"/>
        </p:xfrm>
        <a:graphic>
          <a:graphicData uri="http://schemas.openxmlformats.org/presentationml/2006/ole">
            <p:oleObj r:id="rId3" spid="">
              <p:embed/>
              <p:pic>
                <p:nvPicPr>
                  <p:cNvPr id="147" name="Object 7" descr=""/>
                  <p:cNvPicPr/>
                  <p:nvPr/>
                </p:nvPicPr>
                <p:blipFill>
                  <a:blip r:embed="rId4"/>
                  <a:stretch/>
                </p:blipFill>
                <p:spPr>
                  <a:xfrm>
                    <a:off x="4643280" y="2070000"/>
                    <a:ext cx="4321440" cy="33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0" name="Object 6"/>
          <p:cNvGraphicFramePr/>
          <p:nvPr/>
        </p:nvGraphicFramePr>
        <p:xfrm>
          <a:off x="4572000" y="2924280"/>
          <a:ext cx="4572000" cy="2528640"/>
        </p:xfrm>
        <a:graphic>
          <a:graphicData uri="http://schemas.openxmlformats.org/presentationml/2006/ole">
            <p:oleObj r:id="rId1" spid="">
              <p:embed/>
              <p:pic>
                <p:nvPicPr>
                  <p:cNvPr id="151"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2" name="Object 8"/>
          <p:cNvGraphicFramePr/>
          <p:nvPr/>
        </p:nvGraphicFramePr>
        <p:xfrm>
          <a:off x="108000" y="1413000"/>
          <a:ext cx="4618080" cy="4752720"/>
        </p:xfrm>
        <a:graphic>
          <a:graphicData uri="http://schemas.openxmlformats.org/presentationml/2006/ole">
            <p:oleObj r:id="rId3" spid="">
              <p:embed/>
              <p:pic>
                <p:nvPicPr>
                  <p:cNvPr id="153"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6" name="Picture 3" descr="parser_properties"/>
          <p:cNvPicPr/>
          <p:nvPr/>
        </p:nvPicPr>
        <p:blipFill>
          <a:blip r:embed="rId1"/>
          <a:stretch/>
        </p:blipFill>
        <p:spPr>
          <a:xfrm>
            <a:off x="250920" y="1341360"/>
            <a:ext cx="5113080" cy="2220840"/>
          </a:xfrm>
          <a:prstGeom prst="rect">
            <a:avLst/>
          </a:prstGeom>
          <a:ln w="0">
            <a:noFill/>
          </a:ln>
        </p:spPr>
      </p:pic>
      <p:pic>
        <p:nvPicPr>
          <p:cNvPr id="157" name="Picture 4" descr="parser-monitor4"/>
          <p:cNvPicPr/>
          <p:nvPr/>
        </p:nvPicPr>
        <p:blipFill>
          <a:blip r:embed="rId2"/>
          <a:stretch/>
        </p:blipFill>
        <p:spPr>
          <a:xfrm>
            <a:off x="5580000" y="2924280"/>
            <a:ext cx="3348000" cy="3255840"/>
          </a:xfrm>
          <a:prstGeom prst="rect">
            <a:avLst/>
          </a:prstGeom>
          <a:ln w="0">
            <a:noFill/>
          </a:ln>
        </p:spPr>
      </p:pic>
      <p:sp>
        <p:nvSpPr>
          <p:cNvPr id="158"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1"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3"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4"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7"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ea typeface="Arial Unicode MS"/>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ILLE Gwenaëlle</cp:lastModifiedBy>
  <cp:lastPrinted>2011-07-26T12:09:20Z</cp:lastPrinted>
  <dcterms:modified xsi:type="dcterms:W3CDTF">2011-09-02T09:41:13Z</dcterms:modified>
  <cp:revision>169</cp:revision>
  <dc:subject/>
  <dc:title>Présentation PowerPoint</dc:title>
</cp:coreProperties>
</file>